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67F8-D042-41FF-8033-3D30A094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D462-EED6-41A3-86F4-1C185F1E07B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FCA5-27E0-4F38-8D0C-14798E22C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56FC-0C30-48C3-ABCA-1A139D651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AF11-FE83-4957-8645-9BBFA36F4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9AD7-547A-4425-9AC8-B3286AE64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E9F42-0D0E-4E28-8920-FA972104E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09E85-9C50-4371-A714-7C1B2FC8C8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FE2E-4534-40F3-AE95-0924ED542F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CB7C-42E3-4B24-BB7E-8766E3DCFF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47C82-5685-4315-A443-AB91EC110F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DA9F-19FA-4FB5-B9DE-69F333255D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AF340-CF03-42F0-92A3-4E600783B8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88C1-7E82-4C23-964C-BB1B3CD8A6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07558-74AE-47AD-B15C-DB63CB26AC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0614-6079-452A-8D90-AD41DA01EB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A229-134E-4D60-B08F-A3F9B80C7C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301A-71B5-4740-B66E-8E317ADD39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D853C-B605-4029-9F16-5F4BFA9E1B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5847-FF2E-41BA-AA4A-CD98F0292FE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54AF-2BB3-4A4F-9444-B7ED37E25A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1B5B-D16E-43F1-9E44-18D76C43A92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56A9-2C73-4D0D-97C8-7A729B581C6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68228-D246-4B12-8705-90477C782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5409-A8E4-4A13-BAB1-4F0C99ECF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DEA8-30A6-415A-9526-85BAE7E35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41E0-CDF7-423D-AE3E-73C452B06E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AE1B-640F-47ED-A226-61877D711A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nsifying Livestock Production (Theme 3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MG00556-20120925-1305"/>
          <p:cNvPicPr/>
          <p:nvPr/>
        </p:nvPicPr>
        <p:blipFill>
          <a:blip r:embed="rId1"/>
          <a:stretch/>
        </p:blipFill>
        <p:spPr>
          <a:xfrm>
            <a:off x="1258920" y="1770120"/>
            <a:ext cx="309096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Figure 1"/>
          <p:cNvPicPr/>
          <p:nvPr/>
        </p:nvPicPr>
        <p:blipFill>
          <a:blip r:embed="rId2"/>
          <a:stretch/>
        </p:blipFill>
        <p:spPr>
          <a:xfrm>
            <a:off x="4349880" y="1790640"/>
            <a:ext cx="30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G00565-20120925-1354"/>
          <p:cNvPicPr/>
          <p:nvPr/>
        </p:nvPicPr>
        <p:blipFill>
          <a:blip r:embed="rId3"/>
          <a:stretch/>
        </p:blipFill>
        <p:spPr>
          <a:xfrm>
            <a:off x="1258920" y="3665520"/>
            <a:ext cx="3090960" cy="206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wagashibrine"/>
          <p:cNvPicPr/>
          <p:nvPr/>
        </p:nvPicPr>
        <p:blipFill>
          <a:blip r:embed="rId4"/>
          <a:stretch/>
        </p:blipFill>
        <p:spPr>
          <a:xfrm>
            <a:off x="4335480" y="3675240"/>
            <a:ext cx="3024000" cy="204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1042920" y="5877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ing of milk processors in “Wagashi”  (soft chees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684360" y="1601640"/>
            <a:ext cx="7056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existing and potential feed resources using FEAST in six intervention communities in the 3 regions of Northern Ghana. Surveys on feed market potential in 3 regions i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promising livestock value chains in 3 regions  - Guinea fowl in Northern, small ruminants in Upper West and pig in Upper East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Sc students from University of Ghana, Legon completed their thesis; 1 PhD student (UDS Tamale) completed field work and preparing for his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684360" y="1601640"/>
            <a:ext cx="820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is of baseline situation with respect to biophysical, socio-economic and institutional profiles of the study sites, and the production systems (crop, livestock &amp; agroforestry) in Bougouni and Koutiala, Mal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hesis report on review of existing land use plans and local conventions in Bougouni and Koutiala districts, M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feed resources and constraints to livestock production in six intervention communities in Bougouni and Koutiala districts using FEAST (Feed Assessment Tool) developed by IL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strength and weakness of local institutions governing natural resources, and strategies to strength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of transhumance practices and the effects on natural resource management in the six interventio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ory analysis of the immediate and long-term causes of conflict over natural resource use and identification of  options to reduce conflicts and associate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684360" y="160164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of chopping machine for conservation of crop residues and better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4. Major Gaps in Phase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684360" y="191628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ed improvement, particularly community breeding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household nutrition through animal sourc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nutrient flows in crop-livestock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stock water productivity including rainwater harv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ing drudgery in production (small scale mechan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smallholder milk production, value addition and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5.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684360" y="1916280"/>
            <a:ext cx="8207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AR: ILRI, ICRIS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S: CSIR-Animal Research Institute, Ghana; IER Mali; UDS Tamale; KNUST Kuma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GO: AMED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Baseline (Project Starting point in 20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Evolution of Livestock Research for Develop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3. Key Milestones (Achievements &amp; Less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4. Major Gap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5.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720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 to review constraints and opportunities for intensification of ruminant and non-ruminant production systems in northern Ghana (27-28 Aug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analys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nstraints &amp; opportunities to livestock production)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seline survey in Mali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ntory of technologies for Quick Wins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t 1"/>
          <p:cNvGraphicFramePr/>
          <p:nvPr/>
        </p:nvGraphicFramePr>
        <p:xfrm>
          <a:off x="2187720" y="2028960"/>
          <a:ext cx="476856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2028960"/>
                    <a:ext cx="47685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"/>
          <p:cNvSpPr/>
          <p:nvPr/>
        </p:nvSpPr>
        <p:spPr>
          <a:xfrm>
            <a:off x="684360" y="4941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pulation pyramid of Fonfana Village in Koutiala in 2009/2010 (Source: Travail des enfants dans l’agriculture; total population 63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4360" y="5672160"/>
            <a:ext cx="73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minance of youthful population in both study sites, household labour for farming is a critical iss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nutrition is important in both Bougouni &amp; Koutiala in view of the significant proportion of the population that is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5680" y="1267920"/>
            <a:ext cx="8879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616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Testing of Quick Wins technologies – No coordinated resea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On-station evaluation of some technologies e.g. non-conventional feeds for pigs and guinea fowl (replacing maize with false yam tuber meals for local pig Ashanti Black; replacing maize with false yam seed or sorghum spent grain (pito mash) for local guinea fowl; to replace maiz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Baseline studies in Ghana an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Capacity building – non-degree short term training for farmers and 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: Training in FEAST and evaluation of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-2016: On-farm testing and evaluation of technologies e.g. feed-health interventions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 – 2016: PhD Research (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utrient use in smallholder livestock production systems in Northern Ghana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. Lo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itutions governing NRM in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-2014: Testing feed and housing options to improve productivity of rural poultry and pi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4: 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Ensiling techniques for conservation of crop residues in Ghana – On=farm demonstration and training of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6 – 2017: Piloting feed-health interventions in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Development oriented activities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boration and formalization of local conventions in 3 communities in Bougouni and Koutiala, and demarcation of livestock routes; training in confli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79280" y="1601640"/>
            <a:ext cx="8640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ynthesis on sustainable intensification of cereal-based farming systems in the Sudano-Sahelian zone of Ghana: Analysis of constraints and opportunities for the sustainable intensification of mixed crop-livestock farming systems in norther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tic workshop to analyze constraints and opportunities of sustainable intensification of crop-livestock systems in Northern Ghana held in August 2012. The proceedings from the workshop is avail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ur day training course was organized on crop-livestock farming systems in Tamale, Ghana from 19 to 22 September, 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3 herdsmen, women and cattle owners were trained in milk hygiene practices in 3 districts of northern Ghana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684360" y="1601640"/>
            <a:ext cx="820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25 processors were trained in ‘wagashi’ (soft cheese) processing in the 3 districts in Northern Ghana and 40 milk processors were introduced to rudiments of yoghurt processing in one district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-health interventions for improved small ruminant production in 9 communities in 3 regions - increased weight gain, significant decline in mortality and increase in manure output from the treatment animals. More than 5,000 sheep and goats were vaccinated against P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on of 12 model houses for sheep and goat in 6 intervention communities in Northern Gh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 studies on options to increase productivity of rural poultry and pig production systems, and feeding trials on use of non-conventional fee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on Feed Assessment Tool (FEAST) in Tamale in August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12-14T07:51:04Z</dcterms:modified>
  <cp:revision>80</cp:revision>
  <dc:subject/>
  <dc:title>Slide 1</dc:title>
</cp:coreProperties>
</file>